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DC9-C6B0-4ABF-B344-404706D5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E90-08F6-4B88-850E-CD2F371C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87B-0730-4531-B82E-EF5A0CF7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E15-9A23-4D4F-BB84-3B4B74C2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74A-F738-4265-B505-21724175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ACB-BCFA-4657-8AED-51A7411B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6EC-4536-496A-8632-C3FAA7DF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C65-8B26-4331-8E2F-9479480E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9C9-E298-49E4-A811-1B9B4DB8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DAB-680A-4DCC-AE69-B654B61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7D0-E23D-4133-B2D0-045C9DDB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DF9-9E3A-4311-AC4B-3349584D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5879-BA32-45A9-8B84-6B1F793C7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38680" y="457200"/>
            <a:ext cx="2414880" cy="2819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3733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cameras were invented, the only way people could have a portrait or themselves or a friend or family member was to ask an artist to draw or paint it for them.  Now, most people use camera to make portraits or pictures, but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still like to have their portrait painted by an art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uld you prefer?  Tell w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93760" y="685800"/>
            <a:ext cx="2552760" cy="327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7800" y="685800"/>
            <a:ext cx="2806560" cy="3276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03480" y="384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1911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Portrait of a Gentlem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Jacob Marling, American, 1744-18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27” x 21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8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7040" y="331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41911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Portrait of Ruth DeWit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Vollian Rann, American, 1898-19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pas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6” x 1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47-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6360" y="586728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4680" y="6516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61480" y="182520"/>
            <a:ext cx="36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Six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" y="4230720"/>
            <a:ext cx="72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 oral language, descrip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:  roles i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 portraits, texture, background, co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,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5280" y="4419720"/>
            <a:ext cx="846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rtrait usually presents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rtist is portraying, but it may not lo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ly like that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tle is often something like “A Portrait of Mary Smit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7480" y="15228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artist makes a painting or drawing intend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r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0920" y="4419720"/>
            <a:ext cx="782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take some time to look carefully at these paint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on the left is titled, “Portrait of a Gentlema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on the right is called, “Portrait of Ruth DeWit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6200" y="22860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f these paintings are portra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3800" y="4419720"/>
            <a:ext cx="81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find a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o help you predict when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 portraits was pain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ook at clothing, hair styles, back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6520" y="4267080"/>
            <a:ext cx="71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spot any clues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ett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aint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wo portrait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the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How are the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carefully at color, texture, space, and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1160" y="4114800"/>
            <a:ext cx="82947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mak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these people from lo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ir portrai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s in soci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  Do they have a large or small famil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they hav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b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  What kind of work do they 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h or po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  Support your answer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3000" y="4230720"/>
            <a:ext cx="866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your school pictures.  They are portraits of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they alike or different from these portra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r school portraits have a painted background or can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what was really behind you when the picture was tak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7600" y="4230720"/>
            <a:ext cx="878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how long does it take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tograp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rait at schoo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feel about sitting still long enough for an ar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aint or draw a portrait of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23:50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